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DFC-4046-4DDA-A0C7-06BE533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F7C-8973-4AD2-A1AF-5752AC7A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5C9-70BD-4860-8992-D6EC491D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AF7-D2FE-4EFA-B449-70BC69E1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469-98C0-41AD-8246-C82D155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724-FD4C-43E9-B153-56006DD5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A02-0352-4812-8B0F-15C8CF6A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C4D-4D06-49CC-B69E-1CE92310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5C3-FAD2-45E9-9EB3-C70522E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902-2B04-424D-BF6B-B4CF110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6A1-F739-4F82-9446-E155066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4BC-ED6F-48EB-A75F-9AAB8D0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86D-A28B-47D2-96ED-C8B0CED38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 Vzdávaj česť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ovi zeme i 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úctou a v poko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mu odovzdaj s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ho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nebeský Kráľ, pamätá, ver, aj na t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lý vesmír sám riad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aj na teba hľ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oho sa t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ť v ňom ochrancu smieš, on vždy ti len dobre r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sláv meno jeho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 Všemohúceh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l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teľ, Záchranca tvoj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 len na neho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21:06Z</dcterms:modified>
  <cp:revision>9</cp:revision>
  <dc:subject/>
  <dc:title>Je veľký náš Pán, on slávy je Kráľ Nech do všetkých strán  spev vrúcnych znie chvál.</dc:title>
</cp:coreProperties>
</file>